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Diaporama personnalisé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1"/>
        <p:sld r:id="rId12"/>
        <p:sld r:id="rId13"/>
        <p:sld r:id="rId15"/>
        <p:sld r:id="rId14"/>
        <p:sld r:id="rId17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367-2348-46CF-A310-F25A0CEA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17C-B0A0-4F6C-A42D-157B39E7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565-F3B5-4F38-983B-4BC016B1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187-45E8-4497-A2D2-4DDCCB19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97B-1541-4FAB-A3A6-708222F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8AA-60B5-4F03-AB3F-BFCF73CD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965-F11F-47A1-A96B-29DBD9F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8C1-8E3C-4640-8818-15F926F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38A-151E-4CFD-A92D-1834E8FB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128-53D0-4D29-92DA-D1A7E5BE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123-B106-412B-87AA-535752E9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62B-DD3A-4331-B910-2983B90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B65-9A9C-4A88-B23A-12B486B6CC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00200"/>
            <a:ext cx="84582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ting together an effective (standard)  CV (U.K.) or Resumé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Content (chronological C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.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1066680"/>
          <a:ext cx="739116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23920" y="838080"/>
          <a:ext cx="8020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838080"/>
                    <a:ext cx="8020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0280" y="838080"/>
          <a:ext cx="834372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38080"/>
                    <a:ext cx="834372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28560" y="1066680"/>
          <a:ext cx="8344080" cy="630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66680"/>
                    <a:ext cx="8344080" cy="63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es available on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.The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15120" cy="1154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15120" cy="11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685800"/>
            <a:ext cx="8763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rther information an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iagor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octorjo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prospects.ac.uk/links/Abr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europass.cedfop.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resume.monstor.com/archives/sampl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ronological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tarting 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ail of education, qualifications and work experience in reverse chronological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ectronic Resumé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ed to be entered into a computerised database, read by a scanner and stored in text format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Europ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ills-based C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ore professional experi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cus on a position / job target. Present capabilities in support of tha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hat information should a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       CV include?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The basics)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Personal detai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Career objective or profile (optio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3. Education &amp; qualif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4. Work experience and ski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5. Addition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6. Interests and achie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001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me address - Term addres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hone Number - Mobil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-mail Address - IF you check it regularl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e of Birth (not mandatory)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tionality  (not manda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44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.Personal details (heading) co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 Personal details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lain Pau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me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2, rue Car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000 P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e of Birth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rm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, allées Paul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100 Bayon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0033) 559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Verdana"/>
              </a:rPr>
              <a:t>2. The Objec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t should be a short, succinct description of the type of position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are currently see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four-week work placement (U.K.) or internship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   The Objectiv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 undergraduate in Information Technology looking for work experience, to develop language and computing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 Education and qual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534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verse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st recent experiences first, back to  secondary leve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tes, the name of the institution and town. Relevant modules and information about projects  undertaken, and skills develop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28600"/>
          <a:ext cx="8972640" cy="963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72640" cy="9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2:16:05Z</dcterms:created>
  <dc:creator>DRUON</dc:creator>
  <dc:description/>
  <dc:language>en-US</dc:language>
  <cp:lastModifiedBy>druon</cp:lastModifiedBy>
  <dcterms:modified xsi:type="dcterms:W3CDTF">2006-09-11T15:41:46Z</dcterms:modified>
  <cp:revision>21</cp:revision>
  <dc:subject/>
  <dc:title>Aucun titre de diapositive</dc:title>
</cp:coreProperties>
</file>