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  <p:custShowLst>
    <p:custShow name="Diaporama personnalisé 1" id="0">
      <p:sldLst>
        <p:sld r:id="rId3"/>
        <p:sld r:id="rId4"/>
        <p:sld r:id="rId5"/>
        <p:sld r:id="rId6"/>
        <p:sld r:id="rId7"/>
        <p:sld r:id="rId8"/>
        <p:sld r:id="rId9"/>
        <p:sld r:id="rId10"/>
        <p:sld r:id="rId11"/>
        <p:sld r:id="rId11"/>
        <p:sld r:id="rId12"/>
        <p:sld r:id="rId13"/>
        <p:sld r:id="rId15"/>
        <p:sld r:id="rId14"/>
        <p:sld r:id="rId17"/>
        <p:sld r:id="rId1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C986-8AF1-45EE-8C3A-46B19892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D602-8253-4E76-BA30-8DFD2B40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F832-1D7D-4B17-BF75-8530B87F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52EB-4FEF-4CC2-8EC0-51EED8DE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38C2-1ED8-415E-B225-17E086A1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E21F-109C-483B-A610-DE577A3B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E1DA-0347-44D2-B1FA-FF03D8CD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437C-7F52-484C-A6B3-22BA3078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D6F9-59B3-4A1B-8021-C59A8475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ED3C-D65D-4216-804D-3C3EBC59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4703-AFBB-4D83-BADA-F28CB4F4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C315-EE3D-441D-9564-5D4395E5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4068-EFB0-4E97-ADB2-6402E99E27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600200"/>
            <a:ext cx="8458200" cy="48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tting together an effective (standard)  CV (U.K.) or Resumé (U.S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. Different styles of CV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B. Content (chronological C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. Lay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219320" y="1066680"/>
          <a:ext cx="7391160" cy="75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6680"/>
                    <a:ext cx="7391160" cy="75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123920" y="838080"/>
          <a:ext cx="8020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838080"/>
                    <a:ext cx="8020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800280" y="838080"/>
          <a:ext cx="8343720" cy="560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838080"/>
                    <a:ext cx="8343720" cy="56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28560" y="1066680"/>
          <a:ext cx="8344080" cy="630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1066680"/>
                    <a:ext cx="8344080" cy="630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990720"/>
            <a:ext cx="82296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7. Refe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ademi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lationship to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ferences available on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.The Lay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33520" y="1600200"/>
          <a:ext cx="8115120" cy="1154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115120" cy="115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685800"/>
            <a:ext cx="87631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Further information and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ww.iagora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ttp://doctorjob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ww.prospects.ac.uk/links/Abro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ttp://europass.cedfop.e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ttp://resume.monstor.com/archives/samples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ww.bbc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. Different styles of CV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hronological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starting o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tail of education, qualifications and work experience in reverse chronological ord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lectronic Resumé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igned to be entered into a computerised database, read by a scanner and stored in text format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Europ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kills-based C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more professional experi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cus on a position / job target. Present capabilities in support of that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What information should a 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       CV include?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The basics)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1980720"/>
            <a:ext cx="82087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1. Personal detai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2. Career objective or profile (option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3. Education &amp; qualifica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4. Work experience and skil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5. Additional inform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6. Interests and achiev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7. Re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447920"/>
            <a:ext cx="800100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irst name THEN Sur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ome address - Term address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if necess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hone Number - Mobile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-mail Address - IF you check it regularly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ate of Birth (not mandatory)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ationality  (not mandat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4460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1.Personal details (heading) cont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1. Personal details</a:t>
            </a: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lain Pau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809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me Add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2, rue Car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4000 P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mai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e of Birth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2819160"/>
            <a:ext cx="3809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erm Add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, allées Paul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4100 Bayon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el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0033) 559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ationality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Verdana"/>
              </a:rPr>
              <a:t>2. The Objectiv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t should be a short, succinct description of the type of position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are currently seeki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 four-week work placement (U.K.) or internship (U.S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.    The Objectiv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 undergraduate in Information Technology looking for work experience, to develop language and computing ski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.  Education and qual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5345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everse chronological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st recent experiences first, back to  secondary level edu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Include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ates, the name of the institution and town. Relevant modules and information about projects  undertaken, and skills develop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228600"/>
          <a:ext cx="8972640" cy="963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8972640" cy="963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12:16:05Z</dcterms:created>
  <dc:creator>DRUON</dc:creator>
  <dc:description/>
  <dc:language>en-US</dc:language>
  <cp:lastModifiedBy>druon</cp:lastModifiedBy>
  <dcterms:modified xsi:type="dcterms:W3CDTF">2006-09-11T15:41:46Z</dcterms:modified>
  <cp:revision>21</cp:revision>
  <dc:subject/>
  <dc:title>Aucun titre de diapositive</dc:title>
</cp:coreProperties>
</file>