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Diaporama personnalisé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1"/>
        <p:sld r:id="rId12"/>
        <p:sld r:id="rId13"/>
        <p:sld r:id="rId15"/>
        <p:sld r:id="rId14"/>
        <p:sld r:id="rId17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543-7F8D-49AF-B43D-F1C6919F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24F-5627-4F05-B0AF-2A9F940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A81-A697-49F7-80C8-35A51DBD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2C3-9430-4618-AB83-65C28457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ABC-5FD1-4B86-B1C9-3F63E8F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E5B-3925-4D3E-AADA-EB2653B4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8B6-88BC-467E-A29D-AAC856E3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C91-8FD1-4CBA-AC12-6BC3621A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798-BC42-4ED8-8CE6-4F5AA63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33D-E8BB-41D0-BA25-D7155CA0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E5B-0DD2-4AFD-8ADD-1847E18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20B-7620-47E9-8E6E-D93FC003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8A73-92CF-434D-9EE9-0F96A716AC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00200"/>
            <a:ext cx="8458200" cy="4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tting together an effective (standard)  CV (U.K.) or Resumé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Content (chronological C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.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19320" y="1066680"/>
          <a:ext cx="739116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39116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23920" y="838080"/>
          <a:ext cx="8020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838080"/>
                    <a:ext cx="8020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00280" y="838080"/>
          <a:ext cx="834372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838080"/>
                    <a:ext cx="834372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28560" y="1066680"/>
          <a:ext cx="8344080" cy="630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066680"/>
                    <a:ext cx="8344080" cy="63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90720"/>
            <a:ext cx="82296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ship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es available on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.The Lay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600200"/>
          <a:ext cx="8115120" cy="1154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15120" cy="11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685800"/>
            <a:ext cx="8763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urther information and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iagor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doctorjob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prospects.ac.uk/links/Abr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europass.cedfop.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resume.monstor.com/archives/sample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bbc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hronological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tarting o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ail of education, qualifications and work experience in reverse chronological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lectronic Resumé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ed to be entered into a computerised database, read by a scanner and stored in text format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Europ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kills-based C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ore professional experi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cus on a position / job target. Present capabilities in support of that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hat information should a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       CV include?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The basics)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8208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1. Personal detai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 Career objective or profile (option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3. Education &amp; qualific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4. Work experience and ski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5. Additional inform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6. Interests and achie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80010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me address - Term address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hone Number - Mobil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-mail Address - IF you check it regularly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ate of Birth (not mandatory)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ationality  (not mandat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446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.Personal details (heading) con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 Personal details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lain Pau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me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2, rue Car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000 P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e of Birth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rm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, allées Paul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100 Bayon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l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0033) 559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ity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Verdana"/>
              </a:rPr>
              <a:t>2. The Objectiv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t should be a short, succinct description of the type of position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are currently seek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 four-week work placement (U.K.) or internship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   The Objectiv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 undergraduate in Information Technology looking for work experience, to develop language and computing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 Education and qual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534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verse chronological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st recent experiences first, back to  secondary level edu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clud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tes, the name of the institution and town. Relevant modules and information about projects  undertaken, and skills develop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228600"/>
          <a:ext cx="8972640" cy="963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8972640" cy="963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2:16:05Z</dcterms:created>
  <dc:creator>DRUON</dc:creator>
  <dc:description/>
  <dc:language>en-US</dc:language>
  <cp:lastModifiedBy>druon</cp:lastModifiedBy>
  <dcterms:modified xsi:type="dcterms:W3CDTF">2006-09-11T15:41:46Z</dcterms:modified>
  <cp:revision>21</cp:revision>
  <dc:subject/>
  <dc:title>Aucun titre de diapositive</dc:title>
</cp:coreProperties>
</file>