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FF0-CE25-4B39-9560-DA696E75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673-8A4A-48B2-AFBC-35F161DB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ED1-3EBF-40A2-BE68-8FF66325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F6F-62A8-4FF7-9B9A-F7DC9EB9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A98-5EDB-47AA-9AFE-410BF92C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69D3-8465-4B9E-9886-63F5503B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CD23-D276-45DB-BDB0-1FE2ACFC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357-E698-44A8-B23B-50880EF7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7CBC-FE61-47C0-9422-D8324157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EDB0-B873-4F0A-B230-F15A47B0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6095-96C5-4E2C-AA26-5022E69B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156-4A1C-4CB0-A85E-D487D164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C4AC-1CC1-4F28-85CF-A46BC3CE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9AFA-F4E7-4178-BF0F-5D2119E2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5D85-0EF4-40BB-8238-0B16A8DE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613D-BCFF-4D92-A59A-4ADDC0C8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6519-8AFF-4A52-BB6A-75467461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67A-474B-4429-9265-20BFBE5A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A9B-59FB-4A58-A754-24F43EA0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18A-71B9-4EBF-B1FB-C3CB32B6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0A7-E2D1-4C5F-8AB6-73A7B1B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BFB-1AB5-4E5C-ACF1-81DBC55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7B2-B75A-4B46-B456-A5E12C2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F54-7338-4390-97D1-55B1A6F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7549-F67B-49F0-BD23-2E8198FE7BAD}" type="slidenum">
              <a:rPr b="0" lang="fr-FR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64CA-9787-4663-AE7A-E47ABB044F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0"/>
            <a:ext cx="8001000" cy="10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VER LETTER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The letter-head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The dat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The referenc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The inside address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 The subject lin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6. The open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. The body of the lett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. The clos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 The signatur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. Enclosures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362320"/>
            <a:ext cx="609480" cy="60948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286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necessary when replying to an off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808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osing salutation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67652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ct na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contact 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signatur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me type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c: (for enclosures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71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1143000"/>
            <a:ext cx="74674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/closing salutation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s Kimmet,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7432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8954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334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638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8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038480" y="1676520"/>
            <a:ext cx="4648320" cy="255204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5146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0"/>
            <a:ext cx="2666880" cy="2286000"/>
          </a:xfrm>
          <a:prstGeom prst="wedgeRectCallout">
            <a:avLst>
              <a:gd name="adj1" fmla="val -54583"/>
              <a:gd name="adj2" fmla="val 19305"/>
            </a:avLst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The letter hea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p right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the U.K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34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295280" y="4494960"/>
            <a:ext cx="1752840" cy="381240"/>
          </a:xfrm>
          <a:prstGeom prst="rightArrow">
            <a:avLst>
              <a:gd name="adj1" fmla="val 50000"/>
              <a:gd name="adj2" fmla="val 11494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733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 in fu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572000"/>
            <a:ext cx="5181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6th 2006 (USA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nd September 2006(UK/IRE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63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71720" y="3730680"/>
          <a:ext cx="3552840" cy="36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3730680"/>
                    <a:ext cx="355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886200" y="411480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"/>
            <a:ext cx="3200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first name THEN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Address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5222880"/>
            <a:ext cx="26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495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K/Ireland/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11480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Inside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ee (left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6858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5720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Letter head Top left for the 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0" name="logo_iut" descr=""/>
          <p:cNvPicPr/>
          <p:nvPr/>
        </p:nvPicPr>
        <p:blipFill>
          <a:blip r:embed="rId4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52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e in full to avoid confusion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447920"/>
            <a:ext cx="586764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March 5th, 2006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/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3rd May, 2006</a:t>
            </a: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410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876920"/>
            <a:ext cx="457200" cy="380880"/>
          </a:xfrm>
          <a:prstGeom prst="star5">
            <a:avLst/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76920"/>
            <a:ext cx="65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s of the year begin with a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LETTER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6" name="logo_iut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pening Salutation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32080" y="1969920"/>
            <a:ext cx="664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have a contact name you will start the letter as follows: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s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2520" y="4792680"/>
            <a:ext cx="66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r or 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 written in abbreviated form and  followed by a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143000"/>
            <a:ext cx="71629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salutation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f you have no contact name you will start by using the following salutation: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2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533520"/>
            <a:ext cx="77724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ody of the letter is written in full form.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e the reason why you are writing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speculative, explain the type(s) of work you are interested i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advertised, indicate source of advertisement and date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ep it short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4" name="logo_iut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4920"/>
            <a:ext cx="71625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specific about why you are interested in the positio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ly summarise some of your strongest qualifications to do the work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member to consider this from an employer’s point of view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what you have to offer the employer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6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91440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 the reader to the CV or the application form you are enclosing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 an interest in an interview and offer to provide further information upon request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ite a response by asking a question and / or indicating what follow up you have in mind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8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9:03:41Z</dcterms:created>
  <dc:creator>DRUON</dc:creator>
  <dc:description/>
  <dc:language>en-US</dc:language>
  <cp:lastModifiedBy>druon</cp:lastModifiedBy>
  <dcterms:modified xsi:type="dcterms:W3CDTF">2006-09-11T15:40:14Z</dcterms:modified>
  <cp:revision>7</cp:revision>
  <dc:subject/>
  <dc:title>Aucun titre de diapositive</dc:title>
</cp:coreProperties>
</file>