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A27E-2847-4951-B237-849967C2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1231-0BBD-4598-A37E-5F2E62C6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99E9-2C1C-44C7-A491-887F5226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2E08-B3B4-4F50-9FA7-1A252F1D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D3D5-4D74-4F8B-9ECD-308A6CCB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8E05-C639-4CD2-BDE6-A2F48053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29C1-AB39-46D8-9946-94365B1F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DED6-D084-499A-A21D-0FFBE656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8266-BA0E-4E67-A787-A23CB105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82B1-A1FF-4DE9-9954-DE7FFCC1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ADAC-2E3A-4688-B272-A6BF6931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4CAC-4321-419B-9CA5-CD541319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D211-5B66-4DC5-9E60-EDEE5D05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120B-3B65-49C8-A146-80282D96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2D5D-CC72-4FFC-B58C-5B081C42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CF54-0C72-426C-B313-03452BF48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2F05-A21C-492C-B5FC-9E28D8DC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961C-7D6C-4F7E-96AF-DE5C99F3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F48B-F0E8-40EA-B6D8-ACDEFC9A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92A3-FD03-47AF-B431-18FFED09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6B44-EC8A-43F7-A8CE-DFF178D3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241A-B24A-4B37-80D6-B0485AC4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B5C2-2F34-4F2D-B7E7-500A420F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91D5-C217-4DC6-B7F7-53F53A22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777777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777777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6969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777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777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777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7777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7777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A864-13CF-47C2-8C81-700850DC2952}" type="slidenum">
              <a:rPr b="0" lang="fr-FR" sz="14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777777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777777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6969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F915-B4DF-4DC5-A6DD-C004E2901B0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43000" y="0"/>
            <a:ext cx="8001000" cy="10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OVER LETTERS</a:t>
            </a:r>
            <a:endParaRPr b="0" lang="en-US" sz="40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. The letter-head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. The date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3. The reference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4. The inside address 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5. The subject line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6. The opening salutation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7. The body of the letter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8. The closing salutation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9. The signature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. Enclosures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362320"/>
            <a:ext cx="609480" cy="609480"/>
          </a:xfrm>
          <a:custGeom>
            <a:avLst/>
            <a:gdLst>
              <a:gd name="textAreaLeft" fmla="*/ 0 w 609480"/>
              <a:gd name="textAreaRight" fmla="*/ 219960 w 6094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228600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ly necessary when replying to an offer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447920" y="38088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osing salutation</a:t>
            </a: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1676520"/>
            <a:ext cx="8001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act nam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contact nam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s sincerely,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s faithfully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 signatur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ame typed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c: (for enclosures)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71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71600" y="1143000"/>
            <a:ext cx="746748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ening /closing salutations</a:t>
            </a:r>
            <a:endParaRPr b="0" lang="en-US" sz="40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r Mr Kimmet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r Ms Kimmet,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r Sir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r Madam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274320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289548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8195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s sincerely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533412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5638680"/>
            <a:ext cx="1219320" cy="304920"/>
          </a:xfrm>
          <a:prstGeom prst="rightArrow">
            <a:avLst>
              <a:gd name="adj1" fmla="val 50000"/>
              <a:gd name="adj2" fmla="val 99970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5486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s faithfully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80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038480" y="1676520"/>
            <a:ext cx="4648320" cy="2552040"/>
          </a:xfrm>
          <a:prstGeom prst="rect">
            <a:avLst/>
          </a:prstGeom>
          <a:noFill/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rst name THEN Surname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r address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lephone number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251460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0"/>
            <a:ext cx="2666880" cy="2286000"/>
          </a:xfrm>
          <a:prstGeom prst="wedgeRectCallout">
            <a:avLst>
              <a:gd name="adj1" fmla="val -54583"/>
              <a:gd name="adj2" fmla="val 19305"/>
            </a:avLst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 The letter head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op right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or the U.K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reland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34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>
            <a:off x="1295280" y="4494960"/>
            <a:ext cx="1752840" cy="381240"/>
          </a:xfrm>
          <a:prstGeom prst="rightArrow">
            <a:avLst>
              <a:gd name="adj1" fmla="val 50000"/>
              <a:gd name="adj2" fmla="val 114943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37339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952880"/>
            <a:ext cx="20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e in full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3920" y="4572000"/>
            <a:ext cx="5181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tember 26th 2006 (USA)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2nd September 2006(UK/IRE)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16360" y="15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19320" y="8380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71720" y="3730680"/>
          <a:ext cx="3552840" cy="3672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1720" y="3730680"/>
                    <a:ext cx="35528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3886200" y="4114800"/>
            <a:ext cx="1676520" cy="457200"/>
          </a:xfrm>
          <a:prstGeom prst="leftArrow">
            <a:avLst>
              <a:gd name="adj1" fmla="val 50000"/>
              <a:gd name="adj2" fmla="val 91673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457200"/>
            <a:ext cx="32004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first name THEN Surnam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Address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43600" y="5222880"/>
            <a:ext cx="263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449568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K/Ireland/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SA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43600" y="4114800"/>
            <a:ext cx="32004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.Inside address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dressee (left)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685800"/>
            <a:ext cx="1371600" cy="380880"/>
          </a:xfrm>
          <a:prstGeom prst="leftArrow">
            <a:avLst>
              <a:gd name="adj1" fmla="val 50000"/>
              <a:gd name="adj2" fmla="val 90028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457200"/>
            <a:ext cx="236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Letter head Top left for the USA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50" name="logo_iut" descr=""/>
          <p:cNvPicPr/>
          <p:nvPr/>
        </p:nvPicPr>
        <p:blipFill>
          <a:blip r:embed="rId4"/>
          <a:stretch/>
        </p:blipFill>
        <p:spPr>
          <a:xfrm>
            <a:off x="8153280" y="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7920" y="525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e in full to avoid confusion</a:t>
            </a:r>
            <a:endParaRPr b="0" lang="en-US" sz="36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1447920"/>
            <a:ext cx="586764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3/05/2005= March 5th, 2006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K/Ireland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3/05/2005= 3rd May, 2006</a:t>
            </a:r>
            <a:r>
              <a:rPr b="0" lang="en-GB" sz="24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54100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4876920"/>
            <a:ext cx="457200" cy="380880"/>
          </a:xfrm>
          <a:prstGeom prst="star5">
            <a:avLst/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4876920"/>
            <a:ext cx="6553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ths of the year begin with a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APITAL LETTER</a:t>
            </a:r>
            <a:endParaRPr b="0" lang="en-US" sz="36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56" name="logo_iut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Opening Salutation</a:t>
            </a: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32080" y="1969920"/>
            <a:ext cx="6645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you have a contact name you will start the letter as follows: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ar Mr Kimmet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ar Ms Kimmet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22520" y="4792680"/>
            <a:ext cx="660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Mr or M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 written in abbreviated form and  followed by a surnam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60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1143000"/>
            <a:ext cx="716292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ening salutation</a:t>
            </a:r>
            <a:endParaRPr b="0" lang="en-US" sz="40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f you have no contact name you will start by using the following salutation: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ar Sir,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ar Madam,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62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533520"/>
            <a:ext cx="7772400" cy="66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body of the letter is written in full form.</a:t>
            </a:r>
            <a:endParaRPr b="0" lang="en-US" sz="36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te the reason why you are writing.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speculative, explain the type(s) of work you are interested in.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advertised, indicate source of advertisement and date.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eep it short.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64" name="logo_iut" descr=""/>
          <p:cNvPicPr/>
          <p:nvPr/>
        </p:nvPicPr>
        <p:blipFill>
          <a:blip r:embed="rId2"/>
          <a:stretch/>
        </p:blipFill>
        <p:spPr>
          <a:xfrm>
            <a:off x="8229600" y="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304920"/>
            <a:ext cx="7162560" cy="69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LL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 specific about why you are interested in the position.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riefly summarise some of your strongest qualifications to do the work.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member to consider this from an employer’s point of view.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ow what you have to offer the employer.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66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95280" y="914400"/>
            <a:ext cx="75438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fer the reader to the CV or the application form you are enclosing.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clare an interest in an interview and offer to provide further information upon request.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vite a response by asking a question and / or indicating what follow up you have in mind.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68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9:03:41Z</dcterms:created>
  <dc:creator>DRUON</dc:creator>
  <dc:description/>
  <dc:language>en-US</dc:language>
  <cp:lastModifiedBy>druon</cp:lastModifiedBy>
  <dcterms:modified xsi:type="dcterms:W3CDTF">2006-09-11T15:40:14Z</dcterms:modified>
  <cp:revision>7</cp:revision>
  <dc:subject/>
  <dc:title>Aucun titre de diapositive</dc:title>
</cp:coreProperties>
</file>