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4CE2-194D-4749-951F-26315081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40C8-E858-48DF-BE71-2ED0F3D6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4E9C-DA50-441E-8599-3F9CA886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A24-88AD-4694-859A-70105CE2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2CA4-8099-4AD6-B055-36EAD3B7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5B49-7674-4767-B8F3-3888C85D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1F79-C60A-4F94-8591-EE75F8DF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59E6-4B51-4885-8674-059BC827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CFF3-95BA-4911-80D8-6DE1445E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23D6-A1D5-4057-A1DC-28249AE4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958E-6135-49AD-AE62-EE160E3A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A5B8-EA90-477A-9DFB-CF515CC4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459F-92B7-4838-9EDF-68C04E8A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2482-7919-4D30-A2B3-E1E7F3D6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D5E8-78C6-4868-9E7F-8C7D8A69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379A-41FF-4E2D-9C20-D479570F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B83F-795A-4838-97A6-4F682A29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C70-4D94-45E5-9BFD-AC9E5FB8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AAB-9D1B-4065-925F-098C3FC4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2A4C-1977-40CC-92CC-203F8965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5436-DDCC-495C-961A-BF57ED13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796B-462E-437B-B7E7-284F2DB0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ADA-D8B7-4BF2-9747-73066A86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786-CAD8-46DE-B842-61FFFB2F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969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7777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7777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F45A-A3CF-4AEF-BDD6-6D55E5833F8A}" type="slidenum">
              <a:rPr b="0" lang="fr-FR" sz="14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969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2B10-6940-454F-B497-68B040244A5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43000" y="0"/>
            <a:ext cx="8001000" cy="10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VER LETTERS</a:t>
            </a:r>
            <a:endParaRPr b="0" lang="en-US" sz="40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 The letter-head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. The date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3. The reference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4. The inside address 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. The subject line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6. The opening salutation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7. The body of the letter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8. The closing salutation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9. The signature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. Enclosures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362320"/>
            <a:ext cx="609480" cy="609480"/>
          </a:xfrm>
          <a:custGeom>
            <a:avLst/>
            <a:gdLst>
              <a:gd name="textAreaLeft" fmla="*/ 0 w 609480"/>
              <a:gd name="textAreaRight" fmla="*/ 219960 w 6094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22860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necessary when replying to an offer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38088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osing salutation</a:t>
            </a: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1676520"/>
            <a:ext cx="8001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act na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contact nam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s sincerely,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s faithfully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 signatur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ame typed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c: (for enclosures)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71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71600" y="1143000"/>
            <a:ext cx="746748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ening /closing salutations</a:t>
            </a:r>
            <a:endParaRPr b="0" lang="en-US" sz="40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r Mr Kimmet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r Ms Kimmet,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r Sir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r Madam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27432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289548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8195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s sincerely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53341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563868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5486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s faithfully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80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038480" y="1676520"/>
            <a:ext cx="4648320" cy="2552040"/>
          </a:xfrm>
          <a:prstGeom prst="rect">
            <a:avLst/>
          </a:prstGeom>
          <a:noFill/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rst name THEN Surname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r address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lephone number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251460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0"/>
            <a:ext cx="2666880" cy="2286000"/>
          </a:xfrm>
          <a:prstGeom prst="wedgeRectCallout">
            <a:avLst>
              <a:gd name="adj1" fmla="val -54583"/>
              <a:gd name="adj2" fmla="val 19305"/>
            </a:avLst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 The letter head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p right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or the U.K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reland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34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1295280" y="4494960"/>
            <a:ext cx="1752840" cy="381240"/>
          </a:xfrm>
          <a:prstGeom prst="rightArrow">
            <a:avLst>
              <a:gd name="adj1" fmla="val 50000"/>
              <a:gd name="adj2" fmla="val 114943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37339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952880"/>
            <a:ext cx="20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e in full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4572000"/>
            <a:ext cx="5181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tember 26th 2006 (USA)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2nd September 2006(UK/IRE)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16360" y="15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19320" y="8380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71720" y="3730680"/>
          <a:ext cx="3552840" cy="367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1720" y="3730680"/>
                    <a:ext cx="3552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886200" y="4114800"/>
            <a:ext cx="1676520" cy="457200"/>
          </a:xfrm>
          <a:prstGeom prst="leftArrow">
            <a:avLst>
              <a:gd name="adj1" fmla="val 50000"/>
              <a:gd name="adj2" fmla="val 91673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457200"/>
            <a:ext cx="32004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first name THEN Surnam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Address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5222880"/>
            <a:ext cx="26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449568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K/Ireland/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4114800"/>
            <a:ext cx="3200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Inside address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dressee (left)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68580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457200"/>
            <a:ext cx="236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Letter head Top left for the USA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50" name="logo_iut" descr=""/>
          <p:cNvPicPr/>
          <p:nvPr/>
        </p:nvPicPr>
        <p:blipFill>
          <a:blip r:embed="rId4"/>
          <a:stretch/>
        </p:blipFill>
        <p:spPr>
          <a:xfrm>
            <a:off x="8153280" y="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525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e in full to avoid confusion</a:t>
            </a: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1447920"/>
            <a:ext cx="586764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3/05/2005= March 5th, 2006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K/Ireland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3/05/2005= 3rd May, 2006</a:t>
            </a:r>
            <a:r>
              <a:rPr b="0" lang="en-GB" sz="2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54100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4876920"/>
            <a:ext cx="457200" cy="380880"/>
          </a:xfrm>
          <a:prstGeom prst="star5">
            <a:avLst/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4876920"/>
            <a:ext cx="6553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ths of the year begin with a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APITAL LETTER</a:t>
            </a: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56" name="logo_iut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Opening Salutation</a:t>
            </a: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32080" y="1969920"/>
            <a:ext cx="6645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you have a contact name you will start the letter as follows: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ar Mr Kimmet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ar Ms Kimmet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22520" y="4792680"/>
            <a:ext cx="660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r or 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 written in abbreviated form and  followed by a surnam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0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1143000"/>
            <a:ext cx="71629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ening salutation</a:t>
            </a:r>
            <a:endParaRPr b="0" lang="en-US" sz="40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f you have no contact name you will start by using the following salutation: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ar Sir,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ar Madam,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2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533520"/>
            <a:ext cx="7772400" cy="66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body of the letter is written in full form.</a:t>
            </a: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e the reason why you are writing.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speculative, explain the type(s) of work you are interested in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advertised, indicate source of advertisement and date.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eep it short.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4" name="logo_iut" descr="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304920"/>
            <a:ext cx="7162560" cy="69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LL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 specific about why you are interested in the position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iefly summarise some of your strongest qualifications to do the work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member to consider this from an employer’s point of view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ow what you have to offer the employer.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6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95280" y="914400"/>
            <a:ext cx="75438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fer the reader to the CV or the application form you are enclosing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clare an interest in an interview and offer to provide further information upon request.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ite a response by asking a question and / or indicating what follow up you have in mind.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8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9:03:41Z</dcterms:created>
  <dc:creator>DRUON</dc:creator>
  <dc:description/>
  <dc:language>en-US</dc:language>
  <cp:lastModifiedBy>druon</cp:lastModifiedBy>
  <dcterms:modified xsi:type="dcterms:W3CDTF">2006-09-11T15:40:14Z</dcterms:modified>
  <cp:revision>7</cp:revision>
  <dc:subject/>
  <dc:title>Aucun titre de diapositive</dc:title>
</cp:coreProperties>
</file>