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522-8BD3-4A9C-BF75-2A92E5AF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2F3-878B-4564-B9F0-A54396A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824-0F0B-40EB-A968-B311E578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1FF-840C-4D49-BCC6-580EDF55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B696-7589-48D6-A944-48385920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7B95-E76B-4532-A277-CC0DF053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180-DE6E-4D1A-9A93-A61488F8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8C1C-913C-4244-ADEB-86E89E03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007-E133-48F3-B32D-CF067E04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FE26-EEFC-4BF8-A17C-54E133F9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0BB-3B90-45BF-BA4D-8B850E5F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201-F917-4A39-BED5-34B007D8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526F-DBB2-47E7-994E-B17DEBA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A997-4278-4F02-B492-8D1D238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4EDD-B91D-4BB3-9B9A-B858A03C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6514-AEC9-4137-8EEC-A899BC96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BDC-550A-4B95-9FE1-E4E2059F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91A-9D55-4681-8033-DB2BBF6E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917-C0F4-4A80-975D-BF530E39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941-ABEB-4296-A5A4-C752D5CD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199-7DFF-4A33-8CF2-9FE884A4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D92-64D0-4CA3-A5B0-7C006D3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77C-7F6E-4633-A9F7-9F20614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DDF-E5E7-4DB2-B712-0A5BFC0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60F-1F5F-426E-B7A2-7DE9A5E21511}" type="slidenum">
              <a:rPr b="0" lang="fr-FR" sz="14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77777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777777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308-53E0-4628-8CBB-FAF6F52642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0"/>
            <a:ext cx="8001000" cy="10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VER LETTER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The letter-head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The dat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The referenc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 The inside address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 The subject lin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6. The open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. The body of the lett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. The closing salutation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 The signature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. Enclosures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362320"/>
            <a:ext cx="609480" cy="60948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286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necessary when replying to an offer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808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osing salutation</a:t>
            </a:r>
            <a:endParaRPr b="0" lang="en-US" sz="4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67652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act na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contact 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signatur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ame type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c: (for enclosures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71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1143000"/>
            <a:ext cx="74674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/closing salutations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s Kimmet,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7432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8954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819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sincere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3341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5638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54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s faithfully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8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038480" y="1676520"/>
            <a:ext cx="4648320" cy="2552040"/>
          </a:xfrm>
          <a:prstGeom prst="rect">
            <a:avLst/>
          </a:prstGeom>
          <a:noFill/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ephone number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51460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0"/>
            <a:ext cx="2666880" cy="2286000"/>
          </a:xfrm>
          <a:prstGeom prst="wedgeRectCallout">
            <a:avLst>
              <a:gd name="adj1" fmla="val -54583"/>
              <a:gd name="adj2" fmla="val 19305"/>
            </a:avLst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 The letter hea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p right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 the U.K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34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295280" y="4494960"/>
            <a:ext cx="1752840" cy="381240"/>
          </a:xfrm>
          <a:prstGeom prst="rightArrow">
            <a:avLst>
              <a:gd name="adj1" fmla="val 50000"/>
              <a:gd name="adj2" fmla="val 11494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733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95288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 in fu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572000"/>
            <a:ext cx="5181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6th 2006 (USA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nd September 2006(UK/IRE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636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1932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71720" y="3730680"/>
          <a:ext cx="3552840" cy="36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3730680"/>
                    <a:ext cx="355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886200" y="4114800"/>
            <a:ext cx="1676520" cy="457200"/>
          </a:xfrm>
          <a:prstGeom prst="leftArrow">
            <a:avLst>
              <a:gd name="adj1" fmla="val 50000"/>
              <a:gd name="adj2" fmla="val 91673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"/>
            <a:ext cx="3200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first name THEN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Address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5222880"/>
            <a:ext cx="26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495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K/Ireland/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411480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Inside address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ressee (left)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6858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57200"/>
            <a:ext cx="236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Letter head Top left for the 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0" name="logo_iut" descr=""/>
          <p:cNvPicPr/>
          <p:nvPr/>
        </p:nvPicPr>
        <p:blipFill>
          <a:blip r:embed="rId4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525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e in full to avoid confusion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447920"/>
            <a:ext cx="586764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March 5th, 2006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K/Ireland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3/05/2005= 3rd May, 2006</a:t>
            </a:r>
            <a:r>
              <a:rPr b="0" lang="en-GB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410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876920"/>
            <a:ext cx="457200" cy="380880"/>
          </a:xfrm>
          <a:prstGeom prst="star5">
            <a:avLst/>
          </a:prstGeom>
          <a:solidFill>
            <a:srgbClr val="9933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76920"/>
            <a:ext cx="65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s of the year begin with a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APITAL LETTER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56" name="logo_iut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Opening Salutation</a:t>
            </a:r>
            <a:endParaRPr b="0" lang="en-US" sz="4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32080" y="1969920"/>
            <a:ext cx="664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you have a contact name you will start the letter as follows: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r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ar Ms Kimmet,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2520" y="4792680"/>
            <a:ext cx="66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r or 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 written in abbreviated form and  followed by a surnam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0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143000"/>
            <a:ext cx="71629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ening salutation</a:t>
            </a:r>
            <a:endParaRPr b="0" lang="en-US" sz="40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f you have no contact name you will start by using the following salutation: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2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533520"/>
            <a:ext cx="77724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ody of the letter is written in full form.</a:t>
            </a:r>
            <a:endParaRPr b="0" lang="en-US" sz="36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e the reason why you are writing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speculative, explain the type(s) of work you are interested i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advertised, indicate source of advertisement and date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ep it short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4" name="logo_iut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4920"/>
            <a:ext cx="71625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specific about why you are interested in the position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efly summarise some of your strongest qualifications to do the work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member to consider this from an employer’s point of view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w what you have to offer the employer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6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914400"/>
            <a:ext cx="7543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er the reader to the CV or the application form you are enclosing. 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lare an interest in an interview and offer to provide further information upon request. 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ite a response by asking a question and / or indicating what follow up you have in mind.</a:t>
            </a: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168" name="logo_iut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9:03:41Z</dcterms:created>
  <dc:creator>DRUON</dc:creator>
  <dc:description/>
  <dc:language>en-US</dc:language>
  <cp:lastModifiedBy>druon</cp:lastModifiedBy>
  <dcterms:modified xsi:type="dcterms:W3CDTF">2006-09-11T15:40:14Z</dcterms:modified>
  <cp:revision>7</cp:revision>
  <dc:subject/>
  <dc:title>Aucun titre de diapositive</dc:title>
</cp:coreProperties>
</file>