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DA1F-8FF1-4D9B-B94E-D46412ABB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20E6-DBA9-4C11-B642-37925983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DE7D-13DE-4152-84BE-400B03963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8E98-9927-4E15-BAC2-D6B7AF942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EC8B-44D8-480E-A0FE-A92943A6A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DBC5-F960-42C1-A131-55B9FCED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8389-AAF7-4D14-811F-0B840E7A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5813-506C-4216-B51D-A7F33D86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6BA0-EC38-49B8-B384-D7CD279D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3909-0B1B-4F38-BE03-B9C8C5CD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DF2B-3216-449A-AC49-0BFDEFBA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CA2F-E974-4CDF-B238-559AFE6B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A5B0-26C6-4A6C-978B-41A103B1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CABB-C725-4689-8BA3-A58E5339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0E27-A136-4C8B-8570-FE7164BB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5BCA-F8E9-4B91-803A-1869FF3D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65BA-E0EB-4E79-AA97-A8645E6F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FA79-149A-42A9-BC5A-F07E019C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3652-1876-42CA-B4B7-539E3E97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8029-19C9-4F15-908E-3B48321B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A8A0-96D8-4A23-9B21-5C672666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D1DD-A994-44EB-8117-536EA4DF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E9DF-9AD4-47B4-A3F6-5AFD17A9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D9C1-577A-40B4-9D1D-562E5454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777777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777777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6969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7777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7777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77777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77777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77777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7777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7777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9A8E-74CC-4179-91AB-B52680965B5A}" type="slidenum">
              <a:rPr b="0" lang="fr-FR" sz="14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777777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777777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6969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646E-7D67-4AC9-A04D-DADD9C77789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143000" y="0"/>
            <a:ext cx="8001000" cy="10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OVER LETTERS</a:t>
            </a:r>
            <a:endParaRPr b="0" lang="en-US" sz="40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. The letter-head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. The date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3. The reference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4. The inside address 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5. The subject line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6. The opening salutation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7. The body of the letter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8. The closing salutation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9. The signature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0. Enclosures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362320"/>
            <a:ext cx="609480" cy="609480"/>
          </a:xfrm>
          <a:custGeom>
            <a:avLst/>
            <a:gdLst>
              <a:gd name="textAreaLeft" fmla="*/ 0 w 609480"/>
              <a:gd name="textAreaRight" fmla="*/ 219960 w 6094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228600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ly necessary when replying to an offer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447920" y="38088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osing salutation</a:t>
            </a:r>
            <a:endParaRPr b="0" lang="en-US" sz="4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1676520"/>
            <a:ext cx="8001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tact nam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contact name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rs sincerely,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rs faithfully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r signature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ame typed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c: (for enclosures)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71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71600" y="1143000"/>
            <a:ext cx="746748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pening /closing salutations</a:t>
            </a:r>
            <a:endParaRPr b="0" lang="en-US" sz="40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r Mr Kimmet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r Ms Kimmet, 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r Sir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r Madam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1120" y="274320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19720" y="2895480"/>
            <a:ext cx="1218960" cy="30492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9933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8195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rs sincerely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5334120"/>
            <a:ext cx="76320" cy="914400"/>
          </a:xfrm>
          <a:custGeom>
            <a:avLst/>
            <a:gdLst>
              <a:gd name="textAreaLeft" fmla="*/ 0 w 76320"/>
              <a:gd name="textAreaRight" fmla="*/ 2736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5638680"/>
            <a:ext cx="1219320" cy="304920"/>
          </a:xfrm>
          <a:prstGeom prst="rightArrow">
            <a:avLst>
              <a:gd name="adj1" fmla="val 50000"/>
              <a:gd name="adj2" fmla="val 99970"/>
            </a:avLst>
          </a:prstGeom>
          <a:solidFill>
            <a:srgbClr val="9933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5486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rs faithfully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80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038480" y="1676520"/>
            <a:ext cx="4648320" cy="2552040"/>
          </a:xfrm>
          <a:prstGeom prst="rect">
            <a:avLst/>
          </a:prstGeom>
          <a:noFill/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rst name THEN Surname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our address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lephone number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251460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9933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0"/>
            <a:ext cx="2666880" cy="2286000"/>
          </a:xfrm>
          <a:prstGeom prst="wedgeRectCallout">
            <a:avLst>
              <a:gd name="adj1" fmla="val -54583"/>
              <a:gd name="adj2" fmla="val 19305"/>
            </a:avLst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. The letter head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op right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or the U.K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reland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34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V="1">
            <a:off x="1295280" y="4494960"/>
            <a:ext cx="1752840" cy="381240"/>
          </a:xfrm>
          <a:prstGeom prst="rightArrow">
            <a:avLst>
              <a:gd name="adj1" fmla="val 50000"/>
              <a:gd name="adj2" fmla="val 114943"/>
            </a:avLst>
          </a:prstGeom>
          <a:solidFill>
            <a:srgbClr val="9933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37339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952880"/>
            <a:ext cx="20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e in full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33920" y="4572000"/>
            <a:ext cx="5181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ptember 26th 2006 (USA)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2nd September 2006(UK/IRE)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16360" y="15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19320" y="8380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071720" y="3730680"/>
          <a:ext cx="3552840" cy="3672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1720" y="3730680"/>
                    <a:ext cx="355284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3886200" y="4114800"/>
            <a:ext cx="1676520" cy="457200"/>
          </a:xfrm>
          <a:prstGeom prst="leftArrow">
            <a:avLst>
              <a:gd name="adj1" fmla="val 50000"/>
              <a:gd name="adj2" fmla="val 91673"/>
            </a:avLst>
          </a:prstGeom>
          <a:solidFill>
            <a:srgbClr val="9933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457200"/>
            <a:ext cx="32004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first name THEN Surname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Address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43600" y="5222880"/>
            <a:ext cx="263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4495680"/>
            <a:ext cx="281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K/Ireland/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SA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43600" y="4114800"/>
            <a:ext cx="32004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.Inside address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ddressee (left)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685800"/>
            <a:ext cx="1371600" cy="380880"/>
          </a:xfrm>
          <a:prstGeom prst="leftArrow">
            <a:avLst>
              <a:gd name="adj1" fmla="val 50000"/>
              <a:gd name="adj2" fmla="val 90028"/>
            </a:avLst>
          </a:prstGeom>
          <a:solidFill>
            <a:srgbClr val="9933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2720" y="457200"/>
            <a:ext cx="2361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Letter head Top left for the USA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50" name="logo_iut" descr=""/>
          <p:cNvPicPr/>
          <p:nvPr/>
        </p:nvPicPr>
        <p:blipFill>
          <a:blip r:embed="rId4"/>
          <a:stretch/>
        </p:blipFill>
        <p:spPr>
          <a:xfrm>
            <a:off x="8153280" y="0"/>
            <a:ext cx="9907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47920" y="5256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e in full to avoid confusion</a:t>
            </a:r>
            <a:endParaRPr b="0" lang="en-US" sz="36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1447920"/>
            <a:ext cx="586764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03/05/2005= March 5th, 2006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K/Ireland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03/05/2005= 3rd May, 2006</a:t>
            </a:r>
            <a:r>
              <a:rPr b="0" lang="en-GB" sz="2400" spc="-1" strike="noStrike">
                <a:solidFill>
                  <a:srgbClr val="7777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541008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4876920"/>
            <a:ext cx="457200" cy="380880"/>
          </a:xfrm>
          <a:prstGeom prst="star5">
            <a:avLst/>
          </a:prstGeom>
          <a:solidFill>
            <a:srgbClr val="9933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4876920"/>
            <a:ext cx="6553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ths of the year begin with a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APITAL LETTER</a:t>
            </a:r>
            <a:endParaRPr b="0" lang="en-US" sz="36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56" name="logo_iut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Opening Salutation</a:t>
            </a: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32080" y="1969920"/>
            <a:ext cx="6645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you have a contact name you will start the letter as follows: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ar Mr Kimmet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ar Ms Kimmet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22520" y="4792680"/>
            <a:ext cx="660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Mr or M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re  written in abbreviated form and  followed by a surname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60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43000" y="1143000"/>
            <a:ext cx="716292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pening salutation</a:t>
            </a:r>
            <a:endParaRPr b="0" lang="en-US" sz="40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f you have no contact name you will start by using the following salutation: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ar Sir,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ar Madam,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62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3000" y="533520"/>
            <a:ext cx="7772400" cy="66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body of the letter is written in full form.</a:t>
            </a:r>
            <a:endParaRPr b="0" lang="en-US" sz="36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ate the reason why you are writing.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speculative, explain the type(s) of work you are interested in. 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advertised, indicate source of advertisement and date.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eep it short.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64" name="logo_iut" descr=""/>
          <p:cNvPicPr/>
          <p:nvPr/>
        </p:nvPicPr>
        <p:blipFill>
          <a:blip r:embed="rId2"/>
          <a:stretch/>
        </p:blipFill>
        <p:spPr>
          <a:xfrm>
            <a:off x="8229600" y="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304920"/>
            <a:ext cx="7162560" cy="69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LL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 specific about why you are interested in the position. 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riefly summarise some of your strongest qualifications to do the work. 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member to consider this from an employer’s point of view. 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ow what you have to offer the employer.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66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95280" y="914400"/>
            <a:ext cx="75438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fer the reader to the CV or the application form you are enclosing. 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clare an interest in an interview and offer to provide further information upon request.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vite a response by asking a question and / or indicating what follow up you have in mind.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68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19:03:41Z</dcterms:created>
  <dc:creator>DRUON</dc:creator>
  <dc:description/>
  <dc:language>en-US</dc:language>
  <cp:lastModifiedBy>druon</cp:lastModifiedBy>
  <dcterms:modified xsi:type="dcterms:W3CDTF">2006-09-11T15:40:14Z</dcterms:modified>
  <cp:revision>7</cp:revision>
  <dc:subject/>
  <dc:title>Aucun titre de diapositive</dc:title>
</cp:coreProperties>
</file>